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A5E-C502-46E9-BAC2-F0DACB4F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D11-D1B3-4DCE-B797-551F2A3B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BCD-982F-476C-917A-8D18B7C3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3B5-60F5-4523-843F-93BE2FB9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A3E-01CF-4D33-85CA-94EC47BF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7A4-5B8B-4CEA-AB47-77C68805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0F6-15FD-474C-B434-F7A2D932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934-CC40-415F-87A1-89E433EE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A1D-4B09-44CD-B511-2AA5846E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B82-47DC-4ADC-BA71-C1DC4C7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0CA-A716-486E-87FF-308DA6E2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460-AF0A-4D4B-AEF2-36545A7C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12D1-91DA-47DE-B7FB-6522C111620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Cooperativa Agrosol </a:t>
            </a:r>
            <a:br>
              <a:rPr sz="4400"/>
            </a:b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Asociación Civil Campo Color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TIMOTEO OCHO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YUTO, JUJU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Marcador de contenido" descr="EXPORTACION AGROSOL 025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3 Marcador de contenido" descr="otras fotos 011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Marcador de contenido" descr="otras fotos 029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3 Marcador de contenido" descr="otras fotos 013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Producción de dul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3 Marcador de contenido" descr="otras fotos 001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3 Marcador de contenido" descr="otras fotos 004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3 Marcador de contenido" descr="S1010089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3 Marcador de contenido" descr="S1010093.JPG"/>
          <p:cNvPicPr/>
          <p:nvPr/>
        </p:nvPicPr>
        <p:blipFill>
          <a:blip r:embed="rId1"/>
          <a:stretch/>
        </p:blipFill>
        <p:spPr>
          <a:xfrm>
            <a:off x="2308320" y="1035000"/>
            <a:ext cx="45259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3 Marcador de contenido" descr="S1010101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3 Marcador de contenido" descr="Burritos.jpg"/>
          <p:cNvPicPr/>
          <p:nvPr/>
        </p:nvPicPr>
        <p:blipFill>
          <a:blip r:embed="rId1"/>
          <a:srcRect l="0" t="10737" r="0" b="11955"/>
          <a:stretch/>
        </p:blipFill>
        <p:spPr>
          <a:xfrm>
            <a:off x="2928960" y="785880"/>
            <a:ext cx="3573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3 Marcador de contenido" descr="S1010096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3 Marcador de contenido" descr="Visita Avina, Cumple Luis 001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3 Marcador de contenido" descr="S1010256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Producción y venta de bolsones ecológic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3 Marcador de contenido" descr="EXPORTACION AGROSOL 050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5 Marcador de contenido" descr="Visita Avina, Cumple Luis 004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3 Marcador de contenido" descr="S1010033.JPG"/>
          <p:cNvPicPr/>
          <p:nvPr/>
        </p:nvPicPr>
        <p:blipFill>
          <a:blip r:embed="rId1"/>
          <a:stretch/>
        </p:blipFill>
        <p:spPr>
          <a:xfrm>
            <a:off x="2308320" y="1035000"/>
            <a:ext cx="45259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Exportación de citrus a Euro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mpresa so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ert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Significación para el pequeño produ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EXPORTACION AGROSOL 012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EXPORTACION AGROSOL 005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EXPORTACION AGROSOL 006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EXPORTACION AGROSOL 040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Marcador de contenido" descr="EXPORTACION AGROSOL 002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Marcador de contenido" descr="EXPORTACION AGROSOL 010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8:20:48Z</dcterms:created>
  <dc:creator>User</dc:creator>
  <dc:description/>
  <dc:language>en-US</dc:language>
  <cp:lastModifiedBy>User</cp:lastModifiedBy>
  <dcterms:modified xsi:type="dcterms:W3CDTF">2008-05-29T00:20:05Z</dcterms:modified>
  <cp:revision>7</cp:revision>
  <dc:subject/>
  <dc:title>Diapositiva 1</dc:title>
</cp:coreProperties>
</file>